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6E7-3509-46E5-AF4F-1414353C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F32-4E0D-4DCF-8A95-2362040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18B-EEAF-4C0D-AE87-2440CD9C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501-EBE0-42CF-9971-8A0C89E2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17BD-24A9-45D3-B52D-61B7D19C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D66C-CFA0-4591-A56C-247D1A6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946-D5EF-43EF-8E8F-3638BF8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855-2031-451B-9C4F-4C9D72E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3224-7DD6-43F1-8BD0-130FD3B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4DE-6F1A-4AB2-9D24-89639A9F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A992-F6F2-4209-91A9-46872C3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FFE-1287-404B-B112-8592F043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826-BFDD-44FD-9CE4-283D776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A0E-F6D3-478A-85B4-8717E371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F21D-AB77-461D-BFE5-C19FCC58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EEA0-1FA6-41F8-919A-1DEE685D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EB8-C170-47EF-8004-900E933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979-6BC8-408B-B41D-EDD13958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096-27B1-48DF-96F4-7AED6BF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7B5-3468-4327-A117-0BC9B1CB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BE9-18A6-4F75-A7F8-6BC62C4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BAC-9F64-457E-8855-6BA07E95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1E1-1E80-4D54-822A-0FC64BD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21E-28E8-4475-B29B-6DB4866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554-C0CF-44E0-87F6-1D994C7B9A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09C-26D7-4D6D-AFC4-0CE7CD12B0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Britannic Bold"/>
              </a:rPr>
              <a:t>A Weed is a Flower</a:t>
            </a:r>
            <a:br>
              <a:rPr sz="6600"/>
            </a:br>
            <a:br>
              <a:rPr sz="5800"/>
            </a:br>
            <a:r>
              <a:rPr b="0" lang="en-US" sz="2800" spc="-1" strike="noStrike">
                <a:solidFill>
                  <a:srgbClr val="999900"/>
                </a:solidFill>
                <a:latin typeface="Britannic Bold"/>
              </a:rPr>
              <a:t>The Life of George Washington Carver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24816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 3*Week 5*Day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ence Rea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They had a backyard birthday party for their oldest daughter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Matt fished alone by the riverbank for half a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He caught the biggest, fattest catfish ever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ho’s the youngest baseball player on the team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e cannot buy the larger toybox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We played basketball in the driveway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 scored many points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6:11:53Z</dcterms:created>
  <dc:creator>llefever</dc:creator>
  <dc:description/>
  <dc:language>en-US</dc:language>
  <cp:lastModifiedBy>teacher</cp:lastModifiedBy>
  <dcterms:modified xsi:type="dcterms:W3CDTF">2010-12-06T02:53:32Z</dcterms:modified>
  <cp:revision>3</cp:revision>
  <dc:subject/>
  <dc:title>A Weed is a Flower  The Life of George Washington Car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056317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Scott Foresman 2nd grade </vt:lpwstr>
  </property>
</Properties>
</file>